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9702-6AF1-415D-8EE1-99DD2E775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B90F-A858-493A-A279-C79952B2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4645-0F58-4A4B-AB37-40C9F76F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7DBB-8E6F-4F1A-9CC7-41FBAED59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582B-BA22-4B9F-9B9A-F5FD0FDC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C693-BE0B-484B-AEE4-77952B3E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CEF2-E6D9-423C-A47F-7CC24042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6DE3-5171-4912-B3A1-47FF4EBE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E439-D5A8-4D15-B8BD-741A623D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F847-B8AF-4D4E-B4FA-3D1A14BF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B62B-C3B3-4D07-98C9-AC5FCBAE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D264-EF6F-4EA9-AA63-BDA53C8C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F6E503-09C9-42A3-A646-4790C5404D24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92000" y="4608360"/>
            <a:ext cx="8783640" cy="2448000"/>
          </a:xfrm>
          <a:prstGeom prst="rect">
            <a:avLst/>
          </a:prstGeom>
          <a:solidFill>
            <a:srgbClr val="ccffcc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CURSA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79640" y="4751280"/>
            <a:ext cx="1295280" cy="100800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JA 2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79640" y="5904000"/>
            <a:ext cx="1295280" cy="100800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JA 2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091280" y="4751280"/>
            <a:ext cx="2232000" cy="3603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NTO VENTA 2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128000" y="6443640"/>
            <a:ext cx="2232000" cy="3603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NTO VENTA 2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28000" y="5867280"/>
            <a:ext cx="2232000" cy="3603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NTO VENTA 2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128000" y="5292720"/>
            <a:ext cx="2232000" cy="3603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NTO VENTA 2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92000" y="1871640"/>
            <a:ext cx="8783640" cy="2448000"/>
          </a:xfrm>
          <a:prstGeom prst="rect">
            <a:avLst/>
          </a:prstGeom>
          <a:solidFill>
            <a:srgbClr val="ccffcc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CURSA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79640" y="2016000"/>
            <a:ext cx="1295280" cy="10083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JA 1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79640" y="3168720"/>
            <a:ext cx="1295280" cy="100800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JA 1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91280" y="2016000"/>
            <a:ext cx="2232000" cy="3603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NTO VENTA 1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128000" y="3708360"/>
            <a:ext cx="2232000" cy="3603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NTO VENTA 1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28000" y="3132000"/>
            <a:ext cx="2232000" cy="3603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NTO VENTA 1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128000" y="2556000"/>
            <a:ext cx="2232000" cy="3603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NTO VENTA 1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92000" y="398520"/>
            <a:ext cx="8783640" cy="1114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QUEMA DE CONFIGURACIÓN PARA SISTEMA ERP FACTRONICA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ULTIPLES SUCURSALES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ULTIPLES CAJAS EN CADA SUCURSAL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ULTIPLES PUNTOS DE VENTA EN CADA SUCUR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048360" y="2157480"/>
            <a:ext cx="1044720" cy="939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6048360" y="2733480"/>
            <a:ext cx="1044720" cy="3632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48360" y="3095640"/>
            <a:ext cx="1008000" cy="216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48360" y="3095640"/>
            <a:ext cx="1079640" cy="792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74560" y="2517480"/>
            <a:ext cx="2019240" cy="5792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374560" y="3095640"/>
            <a:ext cx="2019240" cy="576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73480" y="5327280"/>
            <a:ext cx="1947600" cy="5065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373480" y="5832360"/>
            <a:ext cx="1947600" cy="647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975280" y="4967280"/>
            <a:ext cx="1008000" cy="8668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975280" y="5470560"/>
            <a:ext cx="1152720" cy="363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75280" y="5832360"/>
            <a:ext cx="1152720" cy="216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75280" y="5832360"/>
            <a:ext cx="1079640" cy="792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5T01:05:41Z</dcterms:created>
  <dc:creator/>
  <dc:description/>
  <dc:language>en-US</dc:language>
  <cp:lastModifiedBy/>
  <dcterms:modified xsi:type="dcterms:W3CDTF">2017-11-05T01:18:57Z</dcterms:modified>
  <cp:revision>5</cp:revision>
  <dc:subject/>
  <dc:title/>
</cp:coreProperties>
</file>