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9240-3DE4-4FEB-853E-3CB433844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7961-3EE4-49D4-A37F-C18D99012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8D18-E836-4CE9-B7C9-6DF9DDA4C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98C7-183A-49B4-894D-8EFC94748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16A6-37A5-4110-B63C-FC7C2CE32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242C-AD66-4E2B-894F-58D3F48E0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EB02-7092-46A8-B0D7-CCCE13E25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3870-7523-41D8-A6F6-39116B166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9D96-C90D-4C54-B6C2-EAB5A10E1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B152-2532-465A-9493-67DD94AF0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E036-1B7F-4A45-8FB2-0CFE14B80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5A0B-A57B-4749-9C8A-E22E4E8FD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DD0883-765C-423F-8307-611664225B6C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92000" y="4608360"/>
            <a:ext cx="8783640" cy="2448000"/>
          </a:xfrm>
          <a:prstGeom prst="rect">
            <a:avLst/>
          </a:prstGeom>
          <a:solidFill>
            <a:srgbClr val="ccffcc"/>
          </a:solidFill>
          <a:ln w="93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UCURSA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079640" y="4751280"/>
            <a:ext cx="1295280" cy="100800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AJA 2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79640" y="5904000"/>
            <a:ext cx="1295280" cy="100800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AJA 2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091280" y="4751280"/>
            <a:ext cx="2232000" cy="3603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UNTO VENTA 2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128000" y="6443640"/>
            <a:ext cx="2232000" cy="3603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UNTO VENTA 2-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128000" y="5867280"/>
            <a:ext cx="2232000" cy="3603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UNTO VENTA 2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128000" y="5292720"/>
            <a:ext cx="2232000" cy="3603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UNTO VENTA 2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92000" y="1871640"/>
            <a:ext cx="8783640" cy="2448000"/>
          </a:xfrm>
          <a:prstGeom prst="rect">
            <a:avLst/>
          </a:prstGeom>
          <a:solidFill>
            <a:srgbClr val="ccffcc"/>
          </a:solidFill>
          <a:ln w="93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UCURSA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079640" y="2016000"/>
            <a:ext cx="1295280" cy="10083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AJA 1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79640" y="3168720"/>
            <a:ext cx="1295280" cy="100800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AJA 1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091280" y="2016000"/>
            <a:ext cx="2232000" cy="3603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UNTO VENTA 1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128000" y="3708360"/>
            <a:ext cx="2232000" cy="3603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UNTO VENTA 1-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128000" y="3132000"/>
            <a:ext cx="2232000" cy="3603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UNTO VENTA 1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128000" y="2556000"/>
            <a:ext cx="2232000" cy="3603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UNTO VENTA 1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92000" y="398520"/>
            <a:ext cx="8783640" cy="1114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SQUEMA DE CONFIGURACIÓN PARA SISTEMA ERP FACTRONICA</a:t>
            </a: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ULTIPLES SUCURSALES</a:t>
            </a: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ULTIPLES CAJAS EN CADA SUCURSAL</a:t>
            </a: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ULTIPLES PUNTOS DE VENTA EN CADA SUCURS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6048360" y="2157480"/>
            <a:ext cx="1044720" cy="9396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6048360" y="2733480"/>
            <a:ext cx="1044720" cy="3632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048360" y="3095640"/>
            <a:ext cx="1008000" cy="2160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48360" y="3095640"/>
            <a:ext cx="1079640" cy="7920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74560" y="2517480"/>
            <a:ext cx="2019240" cy="5792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2374560" y="3095640"/>
            <a:ext cx="2019240" cy="57636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73480" y="5327280"/>
            <a:ext cx="1947600" cy="50652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373480" y="5832360"/>
            <a:ext cx="1947600" cy="6476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975280" y="4967280"/>
            <a:ext cx="1008000" cy="86688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5975280" y="5470560"/>
            <a:ext cx="1152720" cy="3636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975280" y="5832360"/>
            <a:ext cx="1152720" cy="2160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975280" y="5832360"/>
            <a:ext cx="1079640" cy="79236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05T01:05:41Z</dcterms:created>
  <dc:creator/>
  <dc:description/>
  <dc:language>en-US</dc:language>
  <cp:lastModifiedBy/>
  <dcterms:modified xsi:type="dcterms:W3CDTF">2017-11-05T01:18:57Z</dcterms:modified>
  <cp:revision>5</cp:revision>
  <dc:subject/>
  <dc:title/>
</cp:coreProperties>
</file>