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BCA-B57B-4EE8-9AB5-AF5B8FB3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E0A-4D02-465B-BE8D-139CDE6A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BD6-5071-4EC3-B0CC-20F4E64A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15D-A7DC-4A8F-B806-AEDE4B0A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02A-BE13-43DC-9625-72E18C1E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A66-4356-4EF8-94E4-52BE9074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C16-A79F-4466-8B43-6B8D1701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ED9-8281-4FF4-BA33-5A2C60D0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6AA-CD1D-4D57-9549-9085ABF4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BBD-EC65-4CC3-863B-4717400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E34-4A69-4C5B-8803-4271D466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641-98BB-48DF-8AD1-3510C26F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E069B-71A7-4CBB-8544-ECA38AF63E2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2000" y="4608360"/>
            <a:ext cx="878364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URS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9640" y="475128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9640" y="590400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1280" y="475128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28000" y="644364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00" y="586728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28000" y="529272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000" y="1871640"/>
            <a:ext cx="878364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URS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2016000"/>
            <a:ext cx="1295280" cy="100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79640" y="316872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1280" y="2016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00" y="370836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0" y="3132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28000" y="2556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000" y="398520"/>
            <a:ext cx="8783640" cy="11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QUEMA DE CONFIGURACIÓN PARA SISTEMA ERP FACTRONIC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SUCURSALE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CAJAS EN CADA SUCURSAL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PUNTOS DE VENTA EN CADA SU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048360" y="2157480"/>
            <a:ext cx="1044720" cy="939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48360" y="2733480"/>
            <a:ext cx="1044720" cy="36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8360" y="3095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48360" y="309564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74560" y="2517480"/>
            <a:ext cx="2019240" cy="579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74560" y="3095640"/>
            <a:ext cx="201924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73480" y="5327280"/>
            <a:ext cx="1947600" cy="506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73480" y="5832360"/>
            <a:ext cx="194760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975280" y="4967280"/>
            <a:ext cx="1008000" cy="866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975280" y="5470560"/>
            <a:ext cx="1152720" cy="36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75280" y="583236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75280" y="5832360"/>
            <a:ext cx="107964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5T01:05:41Z</dcterms:created>
  <dc:creator/>
  <dc:description/>
  <dc:language>en-US</dc:language>
  <cp:lastModifiedBy/>
  <dcterms:modified xsi:type="dcterms:W3CDTF">2017-11-05T01:18:57Z</dcterms:modified>
  <cp:revision>5</cp:revision>
  <dc:subject/>
  <dc:title/>
</cp:coreProperties>
</file>