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636C-BA73-49BA-B54E-E088C41CE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C75B-3588-4537-B545-4E483E547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4F2C-4B57-4A21-9991-1EF243299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A37E-C99B-48D5-B39F-3DED4289E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3587-17B3-4BA4-94D9-CED7B048F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07C1-5A27-4991-81AF-B62285372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1876-C34F-4E1F-9A1D-6ABCA5C08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CE9B-20DA-4760-AACB-279B8036B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E605-DFA0-4EE6-9A60-3A1512E72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9170-3C61-438F-8C1A-B83002106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2CB0-3C15-47D7-B362-9BAA9A9BC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FA7D-59F6-4367-90D4-A504C8E80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1F1F2-7B94-4A92-B025-1968496FA16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211640" y="198900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- OC FALABELLA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PORTAR ORDEN DE COMP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211640" y="278136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.- PROCES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MBALAJE DE NOTA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 PEDIDO CON EAN B2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211640" y="357336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.-  GENERAR INFOR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TALLE DE BUL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RA SUBIR A B2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211640" y="4365720"/>
            <a:ext cx="2160720" cy="576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.- GENER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ACTURACIÓN DE PEDI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1" idx="2"/>
            <a:endCxn id="42" idx="0"/>
          </p:cNvCxnSpPr>
          <p:nvPr/>
        </p:nvCxnSpPr>
        <p:spPr>
          <a:xfrm rot="16200000">
            <a:off x="5184000" y="2673360"/>
            <a:ext cx="21636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" name=""/>
          <p:cNvCxnSpPr>
            <a:stCxn id="43" idx="2"/>
            <a:endCxn id="44" idx="0"/>
          </p:cNvCxnSpPr>
          <p:nvPr/>
        </p:nvCxnSpPr>
        <p:spPr>
          <a:xfrm rot="16200000">
            <a:off x="5184000" y="4257720"/>
            <a:ext cx="21636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stCxn id="42" idx="2"/>
            <a:endCxn id="43" idx="0"/>
          </p:cNvCxnSpPr>
          <p:nvPr/>
        </p:nvCxnSpPr>
        <p:spPr>
          <a:xfrm rot="16200000">
            <a:off x="5184360" y="3465360"/>
            <a:ext cx="2160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4211640" y="515772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.- PAGO 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ACTURAS DE VEN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" name=""/>
          <p:cNvCxnSpPr>
            <a:stCxn id="44" idx="2"/>
            <a:endCxn id="48" idx="0"/>
          </p:cNvCxnSpPr>
          <p:nvPr/>
        </p:nvCxnSpPr>
        <p:spPr>
          <a:xfrm rot="16200000">
            <a:off x="5184000" y="5049720"/>
            <a:ext cx="21636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" name=""/>
          <p:cNvCxnSpPr>
            <a:endCxn id="41" idx="0"/>
          </p:cNvCxnSpPr>
          <p:nvPr/>
        </p:nvCxnSpPr>
        <p:spPr>
          <a:xfrm rot="5400000">
            <a:off x="5113080" y="1809360"/>
            <a:ext cx="358920" cy="1080"/>
          </a:xfrm>
          <a:prstGeom prst="bentConnector3">
            <a:avLst>
              <a:gd name="adj1" fmla="val 180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"/>
          <p:cNvCxnSpPr>
            <a:stCxn id="44" idx="1"/>
            <a:endCxn id="52" idx="3"/>
          </p:cNvCxnSpPr>
          <p:nvPr/>
        </p:nvCxnSpPr>
        <p:spPr>
          <a:xfrm rot="10800000">
            <a:off x="3563640" y="4653720"/>
            <a:ext cx="6480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" name=""/>
          <p:cNvSpPr/>
          <p:nvPr/>
        </p:nvSpPr>
        <p:spPr>
          <a:xfrm>
            <a:off x="1403280" y="907920"/>
            <a:ext cx="1656000" cy="360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CES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U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03280" y="403200"/>
            <a:ext cx="1656000" cy="360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CES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TOMÁTI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05080" y="630360"/>
            <a:ext cx="109440" cy="13464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03280" y="198900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REA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AS DE PEDI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R SUCURSAL FALABEL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41" idx="1"/>
            <a:endCxn id="56" idx="3"/>
          </p:cNvCxnSpPr>
          <p:nvPr/>
        </p:nvCxnSpPr>
        <p:spPr>
          <a:xfrm rot="10800000">
            <a:off x="3563640" y="2277000"/>
            <a:ext cx="6480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1405080" y="2349360"/>
            <a:ext cx="14256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1" idx="1"/>
            <a:endCxn id="60" idx="3"/>
          </p:cNvCxnSpPr>
          <p:nvPr/>
        </p:nvCxnSpPr>
        <p:spPr>
          <a:xfrm flipV="1" rot="10800000">
            <a:off x="3563640" y="2276640"/>
            <a:ext cx="648000" cy="794160"/>
          </a:xfrm>
          <a:prstGeom prst="bentConnector3">
            <a:avLst>
              <a:gd name="adj1" fmla="val 499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44" idx="1"/>
            <a:endCxn id="62" idx="3"/>
          </p:cNvCxnSpPr>
          <p:nvPr/>
        </p:nvCxnSpPr>
        <p:spPr>
          <a:xfrm flipV="1" rot="10800000">
            <a:off x="3563640" y="4653720"/>
            <a:ext cx="648000" cy="792360"/>
          </a:xfrm>
          <a:prstGeom prst="bentConnector3">
            <a:avLst>
              <a:gd name="adj1" fmla="val 499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1403280" y="278280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NERAR RESERVA 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DUCTOS TERMINA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05080" y="3130560"/>
            <a:ext cx="14256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03280" y="515772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NER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ABILIZ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05080" y="5505480"/>
            <a:ext cx="14256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03280" y="4365720"/>
            <a:ext cx="2160720" cy="576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VER INVENTARIO (-)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ODEGA Y EXISTENCI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05080" y="4713120"/>
            <a:ext cx="14256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43280" y="404640"/>
            <a:ext cx="331344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AGRAMA DE FLUJO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A DE PED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"/>
          <p:cNvCxnSpPr/>
          <p:nvPr/>
        </p:nvCxnSpPr>
        <p:spPr>
          <a:xfrm flipV="1" rot="10800000">
            <a:off x="5292000" y="5733720"/>
            <a:ext cx="1080" cy="359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4957920" y="1405080"/>
            <a:ext cx="647640" cy="215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32360" y="6132600"/>
            <a:ext cx="647640" cy="215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403280" y="350208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NER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FORME DE PENDIEN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05080" y="3849840"/>
            <a:ext cx="142560" cy="21564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41" idx="1"/>
            <a:endCxn id="70" idx="3"/>
          </p:cNvCxnSpPr>
          <p:nvPr/>
        </p:nvCxnSpPr>
        <p:spPr>
          <a:xfrm flipV="1" rot="10800000">
            <a:off x="3563640" y="2276640"/>
            <a:ext cx="648000" cy="1513440"/>
          </a:xfrm>
          <a:prstGeom prst="bentConnector3">
            <a:avLst>
              <a:gd name="adj1" fmla="val 499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5T04:55:18Z</dcterms:created>
  <dc:creator>.</dc:creator>
  <dc:description/>
  <dc:language>en-US</dc:language>
  <cp:lastModifiedBy>.</cp:lastModifiedBy>
  <dcterms:modified xsi:type="dcterms:W3CDTF">2012-06-29T03:35:49Z</dcterms:modified>
  <cp:revision>47</cp:revision>
  <dc:subject/>
  <dc:title>Diapositiva 1</dc:title>
</cp:coreProperties>
</file>