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82B-79A7-4F15-B5A0-DE4CFC98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C02-83B2-4BB3-83C1-CFBD2561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39E-D212-4F2A-888B-FC3F1C6C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94D-D7DE-4346-91C1-B8A89A0E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954-8BEC-46DF-8CA8-0A7C0FCB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E93-DFA4-4BA4-AEA3-32B9AC9F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110-3BC8-41BB-ABC1-AC52B3E2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701-ABDA-4000-8E2E-8F569074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CE9-9883-4435-B5BE-E4650824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E39-2ABD-4C72-BF5F-A848B0FA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22C-CDBD-4C54-AE9C-E046CDA6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F91-4C68-4034-BA6C-97D778F7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8A6A-E985-49B9-BC26-E90865B5BB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- OC FALABELL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AR ORDEN DE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2781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- 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ALAJE DE NOT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PEDIDO CON EAN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7336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-  GENERAR INFOR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LLE DE BUL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 SUBIR A B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- GENE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CIÓN DE P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rot="16200000">
            <a:off x="5184000" y="267336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rot="16200000">
            <a:off x="5184000" y="4257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2"/>
            <a:endCxn id="43" idx="0"/>
          </p:cNvCxnSpPr>
          <p:nvPr/>
        </p:nvCxnSpPr>
        <p:spPr>
          <a:xfrm rot="16200000">
            <a:off x="5184360" y="34653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421164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.- PAG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URAS DE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 rot="16200000">
            <a:off x="5184000" y="5049720"/>
            <a:ext cx="216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1" idx="0"/>
          </p:cNvCxnSpPr>
          <p:nvPr/>
        </p:nvCxnSpPr>
        <p:spPr>
          <a:xfrm rot="5400000">
            <a:off x="5113080" y="1809360"/>
            <a:ext cx="358920" cy="1080"/>
          </a:xfrm>
          <a:prstGeom prst="bentConnector3">
            <a:avLst>
              <a:gd name="adj1" fmla="val 18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1"/>
            <a:endCxn id="52" idx="3"/>
          </p:cNvCxnSpPr>
          <p:nvPr/>
        </p:nvCxnSpPr>
        <p:spPr>
          <a:xfrm rot="10800000">
            <a:off x="3563640" y="465372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403280" y="90792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03200"/>
            <a:ext cx="165600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5080" y="630360"/>
            <a:ext cx="109440" cy="134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890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AS DE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 SUCURSAL FALAB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1" idx="1"/>
            <a:endCxn id="56" idx="3"/>
          </p:cNvCxnSpPr>
          <p:nvPr/>
        </p:nvCxnSpPr>
        <p:spPr>
          <a:xfrm rot="10800000">
            <a:off x="3563640" y="2277000"/>
            <a:ext cx="648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05080" y="23493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1" idx="1"/>
            <a:endCxn id="60" idx="3"/>
          </p:cNvCxnSpPr>
          <p:nvPr/>
        </p:nvCxnSpPr>
        <p:spPr>
          <a:xfrm flipV="1" rot="10800000">
            <a:off x="3563640" y="2276640"/>
            <a:ext cx="648000" cy="794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1"/>
            <a:endCxn id="62" idx="3"/>
          </p:cNvCxnSpPr>
          <p:nvPr/>
        </p:nvCxnSpPr>
        <p:spPr>
          <a:xfrm flipV="1" rot="10800000">
            <a:off x="3563640" y="4653720"/>
            <a:ext cx="648000" cy="792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278280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 RESERV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080" y="313056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BI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50548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365720"/>
            <a:ext cx="2160720" cy="5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VER INVENTARIO (-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EGA Y EXIS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4713120"/>
            <a:ext cx="142560" cy="21600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4640"/>
            <a:ext cx="331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DE 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 rot="10800000">
            <a:off x="5292000" y="573372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957920" y="140508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6132600"/>
            <a:ext cx="647640" cy="2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3502080"/>
            <a:ext cx="2160720" cy="57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E DE PE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3849840"/>
            <a:ext cx="142560" cy="2156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1" idx="1"/>
            <a:endCxn id="70" idx="3"/>
          </p:cNvCxnSpPr>
          <p:nvPr/>
        </p:nvCxnSpPr>
        <p:spPr>
          <a:xfrm flipV="1" rot="10800000">
            <a:off x="3563640" y="2276640"/>
            <a:ext cx="648000" cy="15134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4:55:18Z</dcterms:created>
  <dc:creator>.</dc:creator>
  <dc:description/>
  <dc:language>en-US</dc:language>
  <cp:lastModifiedBy>.</cp:lastModifiedBy>
  <dcterms:modified xsi:type="dcterms:W3CDTF">2012-06-29T03:35:49Z</dcterms:modified>
  <cp:revision>47</cp:revision>
  <dc:subject/>
  <dc:title>Diapositiva 1</dc:title>
</cp:coreProperties>
</file>