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673E-6964-4C96-9561-617220784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B8A8-5946-4EA8-90EC-3A15D71DE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ED9C-D849-4EE0-BF19-1836D3658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DD46-8232-40D9-A820-D818D1D14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4BF5-3CBE-4B47-9F46-0849F91BB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6B5E-6D38-4540-8B76-82605CE46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22A8-2444-4264-AACB-42969DE3A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1BAE-4FE1-4443-B19A-A3A1A3494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436C-A609-41EE-95E6-FF2DD1CC6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B919-81B0-4F04-A650-C947F352B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570A-9F26-4C2D-85E0-C6E33B354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5B3B-3096-46D7-B43E-1F3EAC40F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BBE57-F664-4754-9444-732BEEC4301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211640" y="198900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- OC FALABELLA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PORTAR ORDEN DE COMP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211640" y="278136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.- PROCES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MBALAJE DE NOTA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 PEDIDO CON EAN B2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211640" y="357336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.-  GENERAR INFOR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TALLE DE BUL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RA SUBIR A B2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211640" y="4365720"/>
            <a:ext cx="2160720" cy="576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.- GENER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ACTURACIÓN DE PEDI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1" idx="2"/>
            <a:endCxn id="42" idx="0"/>
          </p:cNvCxnSpPr>
          <p:nvPr/>
        </p:nvCxnSpPr>
        <p:spPr>
          <a:xfrm rot="16200000">
            <a:off x="5184000" y="2673360"/>
            <a:ext cx="21636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" name=""/>
          <p:cNvCxnSpPr>
            <a:stCxn id="43" idx="2"/>
            <a:endCxn id="44" idx="0"/>
          </p:cNvCxnSpPr>
          <p:nvPr/>
        </p:nvCxnSpPr>
        <p:spPr>
          <a:xfrm rot="16200000">
            <a:off x="5184000" y="4257720"/>
            <a:ext cx="21636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stCxn id="42" idx="2"/>
            <a:endCxn id="43" idx="0"/>
          </p:cNvCxnSpPr>
          <p:nvPr/>
        </p:nvCxnSpPr>
        <p:spPr>
          <a:xfrm rot="16200000">
            <a:off x="5184360" y="3465360"/>
            <a:ext cx="2160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4211640" y="515772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.- PAGO 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ACTURAS DE VEN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" name=""/>
          <p:cNvCxnSpPr>
            <a:stCxn id="44" idx="2"/>
            <a:endCxn id="48" idx="0"/>
          </p:cNvCxnSpPr>
          <p:nvPr/>
        </p:nvCxnSpPr>
        <p:spPr>
          <a:xfrm rot="16200000">
            <a:off x="5184000" y="5049720"/>
            <a:ext cx="21636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" name=""/>
          <p:cNvCxnSpPr>
            <a:endCxn id="41" idx="0"/>
          </p:cNvCxnSpPr>
          <p:nvPr/>
        </p:nvCxnSpPr>
        <p:spPr>
          <a:xfrm rot="5400000">
            <a:off x="5113080" y="1809360"/>
            <a:ext cx="358920" cy="1080"/>
          </a:xfrm>
          <a:prstGeom prst="bentConnector3">
            <a:avLst>
              <a:gd name="adj1" fmla="val 180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"/>
          <p:cNvCxnSpPr>
            <a:stCxn id="44" idx="1"/>
            <a:endCxn id="52" idx="3"/>
          </p:cNvCxnSpPr>
          <p:nvPr/>
        </p:nvCxnSpPr>
        <p:spPr>
          <a:xfrm rot="10800000">
            <a:off x="3563640" y="4653720"/>
            <a:ext cx="6480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" name=""/>
          <p:cNvSpPr/>
          <p:nvPr/>
        </p:nvSpPr>
        <p:spPr>
          <a:xfrm>
            <a:off x="1403280" y="907920"/>
            <a:ext cx="1656000" cy="360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CES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U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03280" y="403200"/>
            <a:ext cx="1656000" cy="360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CES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TOMÁTI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05080" y="630360"/>
            <a:ext cx="109440" cy="13464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03280" y="198900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REA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AS DE PEDI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R SUCURSAL FALABEL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41" idx="1"/>
            <a:endCxn id="56" idx="3"/>
          </p:cNvCxnSpPr>
          <p:nvPr/>
        </p:nvCxnSpPr>
        <p:spPr>
          <a:xfrm rot="10800000">
            <a:off x="3563640" y="2277000"/>
            <a:ext cx="6480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1405080" y="2349360"/>
            <a:ext cx="14256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1" idx="1"/>
            <a:endCxn id="60" idx="3"/>
          </p:cNvCxnSpPr>
          <p:nvPr/>
        </p:nvCxnSpPr>
        <p:spPr>
          <a:xfrm flipV="1" rot="10800000">
            <a:off x="3563640" y="2276640"/>
            <a:ext cx="648000" cy="794160"/>
          </a:xfrm>
          <a:prstGeom prst="bentConnector3">
            <a:avLst>
              <a:gd name="adj1" fmla="val 499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44" idx="1"/>
            <a:endCxn id="62" idx="3"/>
          </p:cNvCxnSpPr>
          <p:nvPr/>
        </p:nvCxnSpPr>
        <p:spPr>
          <a:xfrm flipV="1" rot="10800000">
            <a:off x="3563640" y="4653720"/>
            <a:ext cx="648000" cy="792360"/>
          </a:xfrm>
          <a:prstGeom prst="bentConnector3">
            <a:avLst>
              <a:gd name="adj1" fmla="val 499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1403280" y="278280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NERAR RESERVA 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DUCTOS TERMINA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05080" y="3130560"/>
            <a:ext cx="14256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03280" y="515772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NER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ABILIZ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05080" y="5505480"/>
            <a:ext cx="14256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03280" y="4365720"/>
            <a:ext cx="2160720" cy="576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VER INVENTARIO (-)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ODEGA Y EXISTENCI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05080" y="4713120"/>
            <a:ext cx="14256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43280" y="404640"/>
            <a:ext cx="331344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AGRAMA DE FLUJO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A DE PED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"/>
          <p:cNvCxnSpPr/>
          <p:nvPr/>
        </p:nvCxnSpPr>
        <p:spPr>
          <a:xfrm flipV="1" rot="10800000">
            <a:off x="5292000" y="5733720"/>
            <a:ext cx="1080" cy="359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4957920" y="1405080"/>
            <a:ext cx="647640" cy="215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32360" y="6132600"/>
            <a:ext cx="647640" cy="215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403280" y="350208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NER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FORME DE PENDIEN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05080" y="3849840"/>
            <a:ext cx="142560" cy="21564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41" idx="1"/>
            <a:endCxn id="70" idx="3"/>
          </p:cNvCxnSpPr>
          <p:nvPr/>
        </p:nvCxnSpPr>
        <p:spPr>
          <a:xfrm flipV="1" rot="10800000">
            <a:off x="3563640" y="2276640"/>
            <a:ext cx="648000" cy="1513440"/>
          </a:xfrm>
          <a:prstGeom prst="bentConnector3">
            <a:avLst>
              <a:gd name="adj1" fmla="val 499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5T04:55:18Z</dcterms:created>
  <dc:creator>.</dc:creator>
  <dc:description/>
  <dc:language>en-US</dc:language>
  <cp:lastModifiedBy>.</cp:lastModifiedBy>
  <dcterms:modified xsi:type="dcterms:W3CDTF">2012-06-29T03:35:49Z</dcterms:modified>
  <cp:revision>47</cp:revision>
  <dc:subject/>
  <dc:title>Diapositiva 1</dc:title>
</cp:coreProperties>
</file>