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9911-219F-48ED-866C-8728BA294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0C0A-FAF4-4A68-8430-4FD40109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8D09-F6C2-46E3-8EA2-C311512D3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3488-6587-44C6-8034-BF4A826E1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D01B-D9E2-42F1-A615-7B4013CA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03C0-523D-4086-81C5-34F42667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9B74-CEA5-4943-B485-DE1ABA8F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7219-9C43-47A1-88EA-A9953B54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2BE6-7803-47B3-907D-1F42AD0E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5767-1C4C-47F3-97B1-D21DECA1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0FA3-E236-4630-AC9B-18220CC3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3F99-76F2-4656-B15B-0D59CD1C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D2D7-7ACD-4054-8C3D-B8461FA66D5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11640" y="1989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- OC FALABELL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ORTAR 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11640" y="27813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.- 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BALAJE DE NOT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 PEDIDO CON EAN B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11640" y="35733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.-  GENERAR INFOR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TALLE DE BUL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A SUBIR A B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11640" y="4365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.- GENER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CIÓN DE PEDI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1" idx="2"/>
            <a:endCxn id="42" idx="0"/>
          </p:cNvCxnSpPr>
          <p:nvPr/>
        </p:nvCxnSpPr>
        <p:spPr>
          <a:xfrm rot="16200000">
            <a:off x="5184000" y="267336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" name=""/>
          <p:cNvCxnSpPr>
            <a:stCxn id="43" idx="2"/>
            <a:endCxn id="44" idx="0"/>
          </p:cNvCxnSpPr>
          <p:nvPr/>
        </p:nvCxnSpPr>
        <p:spPr>
          <a:xfrm rot="16200000">
            <a:off x="5184000" y="42577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2" idx="2"/>
            <a:endCxn id="43" idx="0"/>
          </p:cNvCxnSpPr>
          <p:nvPr/>
        </p:nvCxnSpPr>
        <p:spPr>
          <a:xfrm rot="16200000">
            <a:off x="5184360" y="3465360"/>
            <a:ext cx="216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4211640" y="51577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.- PAGO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S DE VEN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4" idx="2"/>
            <a:endCxn id="48" idx="0"/>
          </p:cNvCxnSpPr>
          <p:nvPr/>
        </p:nvCxnSpPr>
        <p:spPr>
          <a:xfrm rot="16200000">
            <a:off x="5184000" y="50497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endCxn id="41" idx="0"/>
          </p:cNvCxnSpPr>
          <p:nvPr/>
        </p:nvCxnSpPr>
        <p:spPr>
          <a:xfrm rot="5400000">
            <a:off x="5113080" y="1809360"/>
            <a:ext cx="358920" cy="1080"/>
          </a:xfrm>
          <a:prstGeom prst="bentConnector3">
            <a:avLst>
              <a:gd name="adj1" fmla="val 180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4" idx="1"/>
            <a:endCxn id="52" idx="3"/>
          </p:cNvCxnSpPr>
          <p:nvPr/>
        </p:nvCxnSpPr>
        <p:spPr>
          <a:xfrm rot="10800000">
            <a:off x="3563640" y="465372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1403280" y="90792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03280" y="40320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MÁT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5080" y="630360"/>
            <a:ext cx="109440" cy="134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1989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AS DE PEDI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 SUCURSAL FALABEL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1" idx="1"/>
            <a:endCxn id="56" idx="3"/>
          </p:cNvCxnSpPr>
          <p:nvPr/>
        </p:nvCxnSpPr>
        <p:spPr>
          <a:xfrm rot="10800000">
            <a:off x="3563640" y="227700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1405080" y="234936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1" idx="1"/>
            <a:endCxn id="60" idx="3"/>
          </p:cNvCxnSpPr>
          <p:nvPr/>
        </p:nvCxnSpPr>
        <p:spPr>
          <a:xfrm flipV="1" rot="10800000">
            <a:off x="3563640" y="2276640"/>
            <a:ext cx="648000" cy="7941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4" idx="1"/>
            <a:endCxn id="62" idx="3"/>
          </p:cNvCxnSpPr>
          <p:nvPr/>
        </p:nvCxnSpPr>
        <p:spPr>
          <a:xfrm flipV="1" rot="10800000">
            <a:off x="3563640" y="4653720"/>
            <a:ext cx="648000" cy="7923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1403280" y="27828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 RESERVA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TOS TERMIN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5080" y="313056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51577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05080" y="550548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03280" y="4365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VER INVENTARIO (-)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DEGA Y EXISTE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471312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404640"/>
            <a:ext cx="33134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GRAMA DE FLUJ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A DE PED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/>
          <p:nvPr/>
        </p:nvCxnSpPr>
        <p:spPr>
          <a:xfrm flipV="1" rot="10800000">
            <a:off x="5292000" y="5733720"/>
            <a:ext cx="1080" cy="359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4957920" y="140508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2360" y="613260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350208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E DE PENDI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05080" y="3849840"/>
            <a:ext cx="142560" cy="215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1" idx="1"/>
            <a:endCxn id="70" idx="3"/>
          </p:cNvCxnSpPr>
          <p:nvPr/>
        </p:nvCxnSpPr>
        <p:spPr>
          <a:xfrm flipV="1" rot="10800000">
            <a:off x="3563640" y="2276640"/>
            <a:ext cx="648000" cy="151344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4:55:18Z</dcterms:created>
  <dc:creator>.</dc:creator>
  <dc:description/>
  <dc:language>en-US</dc:language>
  <cp:lastModifiedBy>.</cp:lastModifiedBy>
  <dcterms:modified xsi:type="dcterms:W3CDTF">2012-06-29T03:35:49Z</dcterms:modified>
  <cp:revision>47</cp:revision>
  <dc:subject/>
  <dc:title>Diapositiva 1</dc:title>
</cp:coreProperties>
</file>