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678A-56B2-4437-AB7B-7BC990C3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5C00-3BA0-45EF-8FB9-DCA9619B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92E2-1184-4DA8-A906-98AEE85AE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1C9B-9ED2-4558-9381-538535B24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2097-9B5F-4E3B-A799-93C4F00C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9D20-0461-4FEB-8157-B7D0D2A7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C8CC-523C-48BD-8F98-71921038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EAA5-97FF-40AC-9760-CC66CA48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0770-1A08-4EC0-AE6C-64CD3044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1F0D-C53C-4DCF-A152-4C8471AD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DD5E-5E47-47A9-8E93-1DBE7B2D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1CBE-045B-4AD3-9CA5-8CEC85D8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6B65-EE06-40E9-AE39-E8B2969FA87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1164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- OC FALABELL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ORTAR 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11640" y="2781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- 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BALAJE DE NOT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PEDIDO CON EAN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1640" y="3573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.-  GENERAR INFOR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TALLE DE BUL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A SUBIR A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1164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.- GENER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CIÓN DE PEDI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 rot="16200000">
            <a:off x="5184000" y="267336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3" idx="2"/>
            <a:endCxn id="44" idx="0"/>
          </p:cNvCxnSpPr>
          <p:nvPr/>
        </p:nvCxnSpPr>
        <p:spPr>
          <a:xfrm rot="16200000">
            <a:off x="5184000" y="4257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2" idx="2"/>
            <a:endCxn id="43" idx="0"/>
          </p:cNvCxnSpPr>
          <p:nvPr/>
        </p:nvCxnSpPr>
        <p:spPr>
          <a:xfrm rot="16200000">
            <a:off x="5184360" y="3465360"/>
            <a:ext cx="216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421164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.- PAGO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S DE VE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8" idx="0"/>
          </p:cNvCxnSpPr>
          <p:nvPr/>
        </p:nvCxnSpPr>
        <p:spPr>
          <a:xfrm rot="16200000">
            <a:off x="5184000" y="5049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endCxn id="41" idx="0"/>
          </p:cNvCxnSpPr>
          <p:nvPr/>
        </p:nvCxnSpPr>
        <p:spPr>
          <a:xfrm rot="5400000">
            <a:off x="5113080" y="1809360"/>
            <a:ext cx="358920" cy="1080"/>
          </a:xfrm>
          <a:prstGeom prst="bentConnector3">
            <a:avLst>
              <a:gd name="adj1" fmla="val 180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4" idx="1"/>
            <a:endCxn id="52" idx="3"/>
          </p:cNvCxnSpPr>
          <p:nvPr/>
        </p:nvCxnSpPr>
        <p:spPr>
          <a:xfrm rot="10800000">
            <a:off x="3563640" y="465372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1403280" y="90792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40320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5080" y="630360"/>
            <a:ext cx="109440" cy="134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AS DE PEDI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 SUCURSAL FALAB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1" idx="1"/>
            <a:endCxn id="56" idx="3"/>
          </p:cNvCxnSpPr>
          <p:nvPr/>
        </p:nvCxnSpPr>
        <p:spPr>
          <a:xfrm rot="10800000">
            <a:off x="3563640" y="227700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1405080" y="23493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1" idx="1"/>
            <a:endCxn id="60" idx="3"/>
          </p:cNvCxnSpPr>
          <p:nvPr/>
        </p:nvCxnSpPr>
        <p:spPr>
          <a:xfrm flipV="1" rot="10800000">
            <a:off x="3563640" y="2276640"/>
            <a:ext cx="648000" cy="7941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4" idx="1"/>
            <a:endCxn id="62" idx="3"/>
          </p:cNvCxnSpPr>
          <p:nvPr/>
        </p:nvCxnSpPr>
        <p:spPr>
          <a:xfrm flipV="1" rot="10800000">
            <a:off x="3563640" y="4653720"/>
            <a:ext cx="648000" cy="7923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1403280" y="27828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 RESERVA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OS TERMIN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5080" y="31305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5080" y="550548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VER INVENTARIO (-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EGA Y EXIST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47131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404640"/>
            <a:ext cx="33134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A DE PED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/>
          <p:nvPr/>
        </p:nvCxnSpPr>
        <p:spPr>
          <a:xfrm flipV="1" rot="10800000">
            <a:off x="5292000" y="5733720"/>
            <a:ext cx="1080" cy="359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4957920" y="140508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613260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350208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E DE PEND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5080" y="3849840"/>
            <a:ext cx="14256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1" idx="1"/>
            <a:endCxn id="70" idx="3"/>
          </p:cNvCxnSpPr>
          <p:nvPr/>
        </p:nvCxnSpPr>
        <p:spPr>
          <a:xfrm flipV="1" rot="10800000">
            <a:off x="3563640" y="2276640"/>
            <a:ext cx="648000" cy="151344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</cp:lastModifiedBy>
  <dcterms:modified xsi:type="dcterms:W3CDTF">2012-06-29T03:35:49Z</dcterms:modified>
  <cp:revision>47</cp:revision>
  <dc:subject/>
  <dc:title>Diapositiva 1</dc:title>
</cp:coreProperties>
</file>