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213F-D383-446E-953D-3FFA53CBD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AD04-76D3-411C-8176-F65A61DE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11E1-207A-4704-8AB3-4FFA40A6C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C89E-33D8-406E-A634-87B5CF9A4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8594-4DFB-4BE9-935E-5A10B654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FCEC-464B-4D74-BA0A-D06AECEC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B43C-D128-4007-8096-671D99F1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2B44-E708-4245-AA4D-63302925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0E35-604F-449F-819B-9AF7FA91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BED6-94B7-47AD-B05B-B2D1B1AC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FE26-B82D-4615-A075-74153AC0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85BF-2486-43A8-B3C9-FDAA5F2D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7DF5-283F-4B9A-8488-8769A5F3B3B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1164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- OC FALABELL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ORTAR 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11640" y="2781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.- 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BALAJE DE NOT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 PEDIDO CON EAN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11640" y="3573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.-  GENERAR INFOR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TALLE DE BUL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A SUBIR A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1164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.- GENER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CIÓN DE PEDI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 rot="16200000">
            <a:off x="5184000" y="267336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" name=""/>
          <p:cNvCxnSpPr>
            <a:stCxn id="43" idx="2"/>
            <a:endCxn id="44" idx="0"/>
          </p:cNvCxnSpPr>
          <p:nvPr/>
        </p:nvCxnSpPr>
        <p:spPr>
          <a:xfrm rot="16200000">
            <a:off x="5184000" y="4257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2" idx="2"/>
            <a:endCxn id="43" idx="0"/>
          </p:cNvCxnSpPr>
          <p:nvPr/>
        </p:nvCxnSpPr>
        <p:spPr>
          <a:xfrm rot="16200000">
            <a:off x="5184360" y="3465360"/>
            <a:ext cx="216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421164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.- PAGO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S DE VEN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4" idx="2"/>
            <a:endCxn id="48" idx="0"/>
          </p:cNvCxnSpPr>
          <p:nvPr/>
        </p:nvCxnSpPr>
        <p:spPr>
          <a:xfrm rot="16200000">
            <a:off x="5184000" y="5049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endCxn id="41" idx="0"/>
          </p:cNvCxnSpPr>
          <p:nvPr/>
        </p:nvCxnSpPr>
        <p:spPr>
          <a:xfrm rot="5400000">
            <a:off x="5113080" y="1809360"/>
            <a:ext cx="358920" cy="1080"/>
          </a:xfrm>
          <a:prstGeom prst="bentConnector3">
            <a:avLst>
              <a:gd name="adj1" fmla="val 180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4" idx="1"/>
            <a:endCxn id="52" idx="3"/>
          </p:cNvCxnSpPr>
          <p:nvPr/>
        </p:nvCxnSpPr>
        <p:spPr>
          <a:xfrm rot="10800000">
            <a:off x="3563640" y="465372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1403280" y="90792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40320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MÁ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5080" y="630360"/>
            <a:ext cx="109440" cy="134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AS DE PEDI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 SUCURSAL FALABE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1" idx="1"/>
            <a:endCxn id="56" idx="3"/>
          </p:cNvCxnSpPr>
          <p:nvPr/>
        </p:nvCxnSpPr>
        <p:spPr>
          <a:xfrm rot="10800000">
            <a:off x="3563640" y="227700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1405080" y="23493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1" idx="1"/>
            <a:endCxn id="60" idx="3"/>
          </p:cNvCxnSpPr>
          <p:nvPr/>
        </p:nvCxnSpPr>
        <p:spPr>
          <a:xfrm flipV="1" rot="10800000">
            <a:off x="3563640" y="2276640"/>
            <a:ext cx="648000" cy="7941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4" idx="1"/>
            <a:endCxn id="62" idx="3"/>
          </p:cNvCxnSpPr>
          <p:nvPr/>
        </p:nvCxnSpPr>
        <p:spPr>
          <a:xfrm flipV="1" rot="10800000">
            <a:off x="3563640" y="4653720"/>
            <a:ext cx="648000" cy="7923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1403280" y="27828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 RESERVA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TOS TERMIN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5080" y="31305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05080" y="550548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328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VER INVENTARIO (-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DEGA Y EXISTE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47131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404640"/>
            <a:ext cx="33134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GRAMA DE FLUJ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A DE PED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/>
          <p:nvPr/>
        </p:nvCxnSpPr>
        <p:spPr>
          <a:xfrm flipV="1" rot="10800000">
            <a:off x="5292000" y="5733720"/>
            <a:ext cx="1080" cy="359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4957920" y="140508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613260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350208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E DE PEND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05080" y="3849840"/>
            <a:ext cx="142560" cy="215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1" idx="1"/>
            <a:endCxn id="70" idx="3"/>
          </p:cNvCxnSpPr>
          <p:nvPr/>
        </p:nvCxnSpPr>
        <p:spPr>
          <a:xfrm flipV="1" rot="10800000">
            <a:off x="3563640" y="2276640"/>
            <a:ext cx="648000" cy="151344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4:55:18Z</dcterms:created>
  <dc:creator>.</dc:creator>
  <dc:description/>
  <dc:language>en-US</dc:language>
  <cp:lastModifiedBy>.</cp:lastModifiedBy>
  <dcterms:modified xsi:type="dcterms:W3CDTF">2012-06-29T03:35:49Z</dcterms:modified>
  <cp:revision>47</cp:revision>
  <dc:subject/>
  <dc:title>Diapositiva 1</dc:title>
</cp:coreProperties>
</file>