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A7CE-31D6-47B6-98D8-67F71B4D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E942-BE5B-4366-B553-06E0D5E7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A019-F15F-415B-AD4B-C1E9E22E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F865-7C08-4A0D-99DB-3055EAED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E218-B44D-4CFA-A36F-43FD5DF8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E2CD-4A0A-4BAC-88E5-5A5AC593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800A-25AB-48F5-9E3D-A0DC40E0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25CB-5D4A-4F63-82C8-552C611B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8013-08A1-48A0-A8D1-CF88F777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5BD-CEB5-4FAC-A0F3-A194F7A9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2C55-C210-41E1-AA70-AC123785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2B2C-96DD-4CDF-AB3A-1D89EA23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21FE-0F24-4F9B-BEF1-63E4C1539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2924280"/>
            <a:ext cx="165564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6640" y="1158840"/>
            <a:ext cx="1655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 MAD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ECCIÓN YAM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UBR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BE TENER 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 PRODUC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08280" y="1158840"/>
            <a:ext cx="1655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 MAD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ECCIÓN DISN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UBR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BE TENER 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 PRODUC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2" idx="2"/>
            <a:endCxn id="41" idx="0"/>
          </p:cNvCxnSpPr>
          <p:nvPr/>
        </p:nvCxnSpPr>
        <p:spPr>
          <a:xfrm flipH="1" rot="16200000">
            <a:off x="1676880" y="2080800"/>
            <a:ext cx="830880" cy="85608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3" idx="2"/>
            <a:endCxn id="41" idx="0"/>
          </p:cNvCxnSpPr>
          <p:nvPr/>
        </p:nvCxnSpPr>
        <p:spPr>
          <a:xfrm rot="5400000">
            <a:off x="2612520" y="2000880"/>
            <a:ext cx="830880" cy="101628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763640" y="3000240"/>
            <a:ext cx="165600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36720" y="3094200"/>
            <a:ext cx="165564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17720" y="3174840"/>
            <a:ext cx="165564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P’S COR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ECC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CTUBR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BE TENER TOD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RPX DE COR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SOCI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50" idx="0"/>
            <a:endCxn id="48" idx="2"/>
          </p:cNvCxnSpPr>
          <p:nvPr/>
        </p:nvCxnSpPr>
        <p:spPr>
          <a:xfrm flipV="1" rot="16200000">
            <a:off x="2530800" y="4468680"/>
            <a:ext cx="43236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1920960" y="4686480"/>
            <a:ext cx="165564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2240" y="4762440"/>
            <a:ext cx="165600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65320" y="4856040"/>
            <a:ext cx="165564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46320" y="4937040"/>
            <a:ext cx="165564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TES DE SAL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OCIADAS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 DE COR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89000"/>
            <a:ext cx="83534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IMIENTO PARA PRODUCTOS DE COLECCIONES  ( 1 DE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3280" y="1341360"/>
            <a:ext cx="18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2997360"/>
            <a:ext cx="18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4581360"/>
            <a:ext cx="18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3280" y="1773360"/>
            <a:ext cx="417672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A: LAS OP MADRE SON SOLAMENTE REFERENCIALES Y S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NCIÓN PRINCIPAL ES GENERAR EL REQUERIMIENTO DE 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OS QUE SE DEBEN CONFECCIONAR PARA L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ECCIONES, SE RECOMIENDA SEPARAR YAMP Y DISN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3429000"/>
            <a:ext cx="4176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A: LAS ORDENES DE PRODUCCIÓN DE CORTES, DEB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ENER TODOS LOS RPX DE LOS CORTES QUE SERÁ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IDOS Y PARA LLAMAR LOS CODIGOS SE DEBE UTILIZ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 HERRAMIENTA DE OP DE ORI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5013360"/>
            <a:ext cx="4176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A: LOS PARTES DE SALIDA DEBEN APUNTAR A LA OP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TE. ES MUY IMPORTANTE QUE TODA LA TELA CONSUM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 UNA ORDEN DE CORTE SE ASOCIE A LA MISMA 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92360" y="2924280"/>
            <a:ext cx="165564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6640" y="1158840"/>
            <a:ext cx="1655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 MAD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ECCIÓN YAM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UBR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BE TENER 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 PRODUC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08280" y="1158840"/>
            <a:ext cx="1655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 MAD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ECCIÓN DISN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UBR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BE TENER 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 PRODUC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62" idx="2"/>
            <a:endCxn id="61" idx="0"/>
          </p:cNvCxnSpPr>
          <p:nvPr/>
        </p:nvCxnSpPr>
        <p:spPr>
          <a:xfrm flipH="1" rot="16200000">
            <a:off x="1676880" y="2080800"/>
            <a:ext cx="831240" cy="856440"/>
          </a:xfrm>
          <a:prstGeom prst="bentConnector3">
            <a:avLst>
              <a:gd name="adj1" fmla="val 498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3" idx="2"/>
            <a:endCxn id="61" idx="0"/>
          </p:cNvCxnSpPr>
          <p:nvPr/>
        </p:nvCxnSpPr>
        <p:spPr>
          <a:xfrm rot="5400000">
            <a:off x="2613240" y="2000880"/>
            <a:ext cx="831240" cy="1016640"/>
          </a:xfrm>
          <a:prstGeom prst="bentConnector3">
            <a:avLst>
              <a:gd name="adj1" fmla="val 498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1763640" y="3000240"/>
            <a:ext cx="165600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6720" y="3094200"/>
            <a:ext cx="165564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17720" y="3174840"/>
            <a:ext cx="165564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P’S CONFE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ECC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CTUBR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RA CADA TAL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70" idx="0"/>
            <a:endCxn id="68" idx="2"/>
          </p:cNvCxnSpPr>
          <p:nvPr/>
        </p:nvCxnSpPr>
        <p:spPr>
          <a:xfrm flipV="1" rot="16200000">
            <a:off x="2531520" y="4468320"/>
            <a:ext cx="432720" cy="3960"/>
          </a:xfrm>
          <a:prstGeom prst="bentConnector3">
            <a:avLst>
              <a:gd name="adj1" fmla="val 499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1920960" y="4686480"/>
            <a:ext cx="165564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92240" y="4762440"/>
            <a:ext cx="165600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65320" y="4856040"/>
            <a:ext cx="165564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46320" y="4937040"/>
            <a:ext cx="165564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TES DE SAL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OCIADAS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 DE CONFE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89000"/>
            <a:ext cx="83534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IMIENTO PARA PRODUCTOS DE COLECCIONES  ( 2 DE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3280" y="1341360"/>
            <a:ext cx="18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3280" y="2997360"/>
            <a:ext cx="18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4581360"/>
            <a:ext cx="18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1773360"/>
            <a:ext cx="417672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A: LAS OP MADRE SON SOLAMENTE REFERENCIALES Y S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NCIÓN PRINCIPAL ES GENERAR EL REQUERIMIENTO DE 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OS QUE SE DEBEN CONFECCIONAR PARA L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ECCIONES, SE RECOMIENDA SEPARAR YAMP Y DISN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3280" y="3429000"/>
            <a:ext cx="4176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A: LAS ORDENES DE PRODUCCIÓN DE CONFECCIÓN DEB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UNTAR A CADA TALLER, SE RECOMIENDA NO MEZCL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ERENTES PRODUCTOS EN LA MISMA ORDEN DE CONFE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5013360"/>
            <a:ext cx="4176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A: LOS PARTES DE SALIDA DEBEN APUNTAR A LA OP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FECCIÓN DE CADA TALLER Y DEBE INDICAR TODOS 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ERIALES ENTREGADOS AL MISMO TALL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9:43:58Z</dcterms:created>
  <dc:creator>.</dc:creator>
  <dc:description/>
  <dc:language>en-US</dc:language>
  <cp:lastModifiedBy>....</cp:lastModifiedBy>
  <dcterms:modified xsi:type="dcterms:W3CDTF">2013-01-08T12:15:13Z</dcterms:modified>
  <cp:revision>9</cp:revision>
  <dc:subject/>
  <dc:title>Diapositiva 1</dc:title>
</cp:coreProperties>
</file>