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073-F2E9-43C7-BE0B-08E21239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2E1-ABDF-41CE-8F86-B0500E43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756-4E18-4334-A7A7-BCC1172E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32A-9F1A-4DF2-AD7D-F660E84A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F39-1C46-4EBE-B6FF-E56F2B21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FCA-CD34-430E-BD58-19A8820F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297-84C1-47EF-8433-62C90413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E36-F3BC-410F-AA89-26C911E0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AC4-90F3-4F34-8A49-798CBAD0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3D0-4CBE-42DF-9197-CF2106DC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906-CC38-4632-923B-292A64B2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C68-34F0-4039-AFFF-E9ED82B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F785-1B9B-473C-A557-84025ACBB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0640" y="2268360"/>
            <a:ext cx="561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acceder al módulo Orden de Producción, debe ir al menú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&gt; Documentos &gt; Orden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2280" y="4683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ERP-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YTEC LT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0640" y="1042920"/>
            <a:ext cx="561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A DE US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0640" y="183528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-ACCESO AL MÓD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0640" y="2268360"/>
            <a:ext cx="561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acceder al módulo Orden de Producción, debe ir al menú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&gt; Documentos &gt; Orden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2280" y="4683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ERP-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YTEC LT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0640" y="1042920"/>
            <a:ext cx="561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A DE US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0640" y="183528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-ACCESO AL MÓD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6640" y="3564000"/>
            <a:ext cx="5095800" cy="22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20640" y="2268360"/>
            <a:ext cx="561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acceder al módulo Orden de Producción, debe ir al menú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&gt; Documentos &gt; Orden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2280" y="4683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ERP-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YTEC LT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0640" y="1042920"/>
            <a:ext cx="561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A DE US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0640" y="183528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-ACCESO AL MÓD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0640" y="1835280"/>
            <a:ext cx="5616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CAR ORDENES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buscar ordenes de producción, se debe pulsar el botón “BUSCAR” y luego definir que ordenes de producción neces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ello el sistema dispone de diferentes op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car p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Listar Todos Ej. Muestra todas las ord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Folio de orden de producción Ej. 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Folio de orden de producción de origen Ej. 3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Razón social del proveedor Ej. Tintorería Krei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Fecha de solicitud ej. 07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Fecha de entrega ej. 02/07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RO PROCESOS PRODUCTIV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e filtro permite realizar la búsqueda de todas las ordenes de producción asociadas a un proceso productivo especifico, por ej.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Estamp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Teñido/Estamp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Conf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4683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ERP-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YTEC LT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640" y="1042920"/>
            <a:ext cx="561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A DE US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8120" y="2182680"/>
            <a:ext cx="1621080" cy="768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8120" y="3238560"/>
            <a:ext cx="162108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TES DE SALID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O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8120" y="4294080"/>
            <a:ext cx="1621080" cy="768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RECEPCIONAR SERVIC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8120" y="5351400"/>
            <a:ext cx="162108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 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7" idx="2"/>
            <a:endCxn id="58" idx="0"/>
          </p:cNvCxnSpPr>
          <p:nvPr/>
        </p:nvCxnSpPr>
        <p:spPr>
          <a:xfrm flipV="1" rot="10800000">
            <a:off x="3318840" y="2950920"/>
            <a:ext cx="108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9" idx="2"/>
            <a:endCxn id="60" idx="0"/>
          </p:cNvCxnSpPr>
          <p:nvPr/>
        </p:nvCxnSpPr>
        <p:spPr>
          <a:xfrm flipV="1" rot="10800000">
            <a:off x="3318840" y="5062320"/>
            <a:ext cx="1080" cy="28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8" idx="2"/>
            <a:endCxn id="59" idx="0"/>
          </p:cNvCxnSpPr>
          <p:nvPr/>
        </p:nvCxnSpPr>
        <p:spPr>
          <a:xfrm flipV="1" rot="10800000">
            <a:off x="3318840" y="4006440"/>
            <a:ext cx="108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08120" y="6407280"/>
            <a:ext cx="162108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COSTEO Y CIER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0" idx="2"/>
            <a:endCxn id="64" idx="0"/>
          </p:cNvCxnSpPr>
          <p:nvPr/>
        </p:nvCxnSpPr>
        <p:spPr>
          <a:xfrm flipV="1" rot="10800000">
            <a:off x="3318840" y="6119280"/>
            <a:ext cx="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endCxn id="57" idx="0"/>
          </p:cNvCxnSpPr>
          <p:nvPr/>
        </p:nvCxnSpPr>
        <p:spPr>
          <a:xfrm flipV="1" rot="10800000">
            <a:off x="3318840" y="1824120"/>
            <a:ext cx="1080" cy="35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0" idx="1"/>
            <a:endCxn id="68" idx="3"/>
          </p:cNvCxnSpPr>
          <p:nvPr/>
        </p:nvCxnSpPr>
        <p:spPr>
          <a:xfrm rot="10800000">
            <a:off x="2021760" y="5734800"/>
            <a:ext cx="486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5157720" y="1116000"/>
            <a:ext cx="1241640" cy="479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57720" y="442800"/>
            <a:ext cx="1241640" cy="479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9520" y="744480"/>
            <a:ext cx="82440" cy="18108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200" y="2182680"/>
            <a:ext cx="1619280" cy="768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RJETA DE BODEG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RJETA DE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8" idx="1"/>
            <a:endCxn id="72" idx="3"/>
          </p:cNvCxnSpPr>
          <p:nvPr/>
        </p:nvCxnSpPr>
        <p:spPr>
          <a:xfrm rot="10800000">
            <a:off x="2021760" y="2566440"/>
            <a:ext cx="486360" cy="1056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03200" y="2662200"/>
            <a:ext cx="108000" cy="28908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58" idx="1"/>
            <a:endCxn id="76" idx="3"/>
          </p:cNvCxnSpPr>
          <p:nvPr/>
        </p:nvCxnSpPr>
        <p:spPr>
          <a:xfrm flipV="1" rot="10800000">
            <a:off x="2021760" y="3622320"/>
            <a:ext cx="486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1"/>
            <a:endCxn id="78" idx="3"/>
          </p:cNvCxnSpPr>
          <p:nvPr/>
        </p:nvCxnSpPr>
        <p:spPr>
          <a:xfrm rot="10800000">
            <a:off x="2021760" y="6790680"/>
            <a:ext cx="486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403200" y="3240000"/>
            <a:ext cx="1619280" cy="768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200" y="3703680"/>
            <a:ext cx="108000" cy="28872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200" y="6407280"/>
            <a:ext cx="161928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200" y="6870600"/>
            <a:ext cx="108000" cy="28728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200" y="5351400"/>
            <a:ext cx="161928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SUMA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RJETA DE BODEG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RJETA DE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3200" y="5815080"/>
            <a:ext cx="108000" cy="28728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1000" y="444600"/>
            <a:ext cx="2485800" cy="67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DEN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2840" y="5351400"/>
            <a:ext cx="162072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 COMP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CONTABILIZACIÓ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32200" y="5830920"/>
            <a:ext cx="108000" cy="28872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2840" y="3238560"/>
            <a:ext cx="162072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ÓN DE SERVIC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COMPRA / B. HON.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2840" y="3719520"/>
            <a:ext cx="108000" cy="28728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59" idx="3"/>
            <a:endCxn id="83" idx="1"/>
          </p:cNvCxnSpPr>
          <p:nvPr/>
        </p:nvCxnSpPr>
        <p:spPr>
          <a:xfrm>
            <a:off x="4128840" y="4677840"/>
            <a:ext cx="594360" cy="1058040"/>
          </a:xfrm>
          <a:prstGeom prst="bentConnector3">
            <a:avLst>
              <a:gd name="adj1" fmla="val 496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59" idx="3"/>
            <a:endCxn id="85" idx="1"/>
          </p:cNvCxnSpPr>
          <p:nvPr/>
        </p:nvCxnSpPr>
        <p:spPr>
          <a:xfrm flipV="1">
            <a:off x="4128840" y="3622320"/>
            <a:ext cx="594360" cy="1056240"/>
          </a:xfrm>
          <a:prstGeom prst="bentConnector3">
            <a:avLst>
              <a:gd name="adj1" fmla="val 496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290840" y="4440240"/>
            <a:ext cx="270000" cy="4809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3" idx="2"/>
            <a:endCxn id="91" idx="0"/>
          </p:cNvCxnSpPr>
          <p:nvPr/>
        </p:nvCxnSpPr>
        <p:spPr>
          <a:xfrm flipV="1" rot="10800000">
            <a:off x="5533200" y="6119280"/>
            <a:ext cx="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V="1" rot="10800000">
            <a:off x="4425120" y="538128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068640" y="1403280"/>
            <a:ext cx="485640" cy="287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560" y="7707240"/>
            <a:ext cx="485640" cy="287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2840" y="6407280"/>
            <a:ext cx="162072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- 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DE COMP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2840" y="7462800"/>
            <a:ext cx="162072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.- CONTABILIZAR EGR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O FACTURA  DE COMP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1" idx="2"/>
            <a:endCxn id="95" idx="0"/>
          </p:cNvCxnSpPr>
          <p:nvPr/>
        </p:nvCxnSpPr>
        <p:spPr>
          <a:xfrm flipV="1" rot="10800000">
            <a:off x="5533200" y="7175160"/>
            <a:ext cx="108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5" idx="1"/>
            <a:endCxn id="94" idx="3"/>
          </p:cNvCxnSpPr>
          <p:nvPr/>
        </p:nvCxnSpPr>
        <p:spPr>
          <a:xfrm flipV="1" rot="10800000">
            <a:off x="3534480" y="7845840"/>
            <a:ext cx="118836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03200" y="4199040"/>
            <a:ext cx="1619280" cy="768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 DESPACHO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 TRASL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200" y="4662360"/>
            <a:ext cx="108000" cy="28908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58" idx="1"/>
            <a:endCxn id="98" idx="3"/>
          </p:cNvCxnSpPr>
          <p:nvPr/>
        </p:nvCxnSpPr>
        <p:spPr>
          <a:xfrm flipV="1" rot="10800000">
            <a:off x="2021760" y="3622320"/>
            <a:ext cx="486360" cy="96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5" idx="3"/>
            <a:endCxn id="91" idx="3"/>
          </p:cNvCxnSpPr>
          <p:nvPr/>
        </p:nvCxnSpPr>
        <p:spPr>
          <a:xfrm>
            <a:off x="6343200" y="3622680"/>
            <a:ext cx="2520" cy="316944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3080" y="366840"/>
          <a:ext cx="6172200" cy="7800840"/>
        </p:xfrm>
        <a:graphic>
          <a:graphicData uri="http://schemas.openxmlformats.org/drawingml/2006/table">
            <a:tbl>
              <a:tblPr/>
              <a:tblGrid>
                <a:gridCol w="2184120"/>
                <a:gridCol w="1652760"/>
                <a:gridCol w="1168200"/>
                <a:gridCol w="1167120"/>
              </a:tblGrid>
              <a:tr h="45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) Partes de Salida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en Proceso (Act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encias Inventario (Act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B) Recepción de Servicios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encias Servicios (Act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umentos por Contabilizar (Pas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6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) Finalizar Produ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encias Inventario (Act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encias Servicios (Act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en Proceso (Pas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ertar cuando existan consumos que no esten indicados en la rec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...</cp:lastModifiedBy>
  <dcterms:modified xsi:type="dcterms:W3CDTF">2013-01-08T12:15:38Z</dcterms:modified>
  <cp:revision>53</cp:revision>
  <dc:subject/>
  <dc:title>Diapositiva 1</dc:title>
</cp:coreProperties>
</file>