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8D6F-88C7-490A-8E38-4AD9A0483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8E5A-0897-4C6D-9A00-B4014C82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A14C-556F-4735-8DDA-CF2A3DDB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C67B-58A5-4404-9DDB-832FC57F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6371-D008-4EB8-95EF-C15EE3AC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98E7-E7ED-443A-A904-3EA0C0A1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1DD5-F83E-484B-9117-3EEBB988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22A5-7EE8-4102-80F9-C15F91BC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BFD9-3C09-4114-A228-95C0F98C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D23F-3F70-4A71-B239-0779D68E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234D-C6EC-42C3-A8FF-2147AAC2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0710-5CAC-43C2-833C-C4816E3C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E0D8-03DF-4463-8291-E76255CFB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84360" y="71928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84360" y="151128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R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475128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GUIA DESPACH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84360" y="230364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RIMIR Y ENVI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84360" y="309564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PCION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rot="16200000">
            <a:off x="3456720" y="140328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4" idx="2"/>
            <a:endCxn id="45" idx="0"/>
          </p:cNvCxnSpPr>
          <p:nvPr/>
        </p:nvCxnSpPr>
        <p:spPr>
          <a:xfrm rot="16200000">
            <a:off x="3456720" y="298764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2" idx="2"/>
            <a:endCxn id="44" idx="0"/>
          </p:cNvCxnSpPr>
          <p:nvPr/>
        </p:nvCxnSpPr>
        <p:spPr>
          <a:xfrm rot="16200000">
            <a:off x="3456720" y="219564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2484360" y="475128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FACTUR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61080" y="475128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BOLETA HONORARIO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5" idx="2"/>
            <a:endCxn id="43" idx="0"/>
          </p:cNvCxnSpPr>
          <p:nvPr/>
        </p:nvCxnSpPr>
        <p:spPr>
          <a:xfrm rot="5400000">
            <a:off x="1836720" y="3023280"/>
            <a:ext cx="1079640" cy="23770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5" idx="2"/>
            <a:endCxn id="49" idx="0"/>
          </p:cNvCxnSpPr>
          <p:nvPr/>
        </p:nvCxnSpPr>
        <p:spPr>
          <a:xfrm rot="16200000">
            <a:off x="3025080" y="4211640"/>
            <a:ext cx="10796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50" idx="0"/>
          </p:cNvCxnSpPr>
          <p:nvPr/>
        </p:nvCxnSpPr>
        <p:spPr>
          <a:xfrm flipH="1" rot="16200000">
            <a:off x="4213080" y="3023280"/>
            <a:ext cx="1079640" cy="23767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55" idx="2"/>
            <a:endCxn id="41" idx="0"/>
          </p:cNvCxnSpPr>
          <p:nvPr/>
        </p:nvCxnSpPr>
        <p:spPr>
          <a:xfrm flipH="1" rot="16200000">
            <a:off x="3401640" y="556200"/>
            <a:ext cx="3243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2484360" y="5616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 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61080" y="5616720"/>
            <a:ext cx="216036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LETA HONOR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49" idx="2"/>
            <a:endCxn id="56" idx="0"/>
          </p:cNvCxnSpPr>
          <p:nvPr/>
        </p:nvCxnSpPr>
        <p:spPr>
          <a:xfrm rot="16200000">
            <a:off x="3420360" y="547200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0" idx="2"/>
            <a:endCxn id="57" idx="0"/>
          </p:cNvCxnSpPr>
          <p:nvPr/>
        </p:nvCxnSpPr>
        <p:spPr>
          <a:xfrm rot="16200000">
            <a:off x="5796720" y="547200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6372360" y="342900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 RECEPCIÓ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ISTENCIAS VS DOCTOS X 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72360" y="270828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GRESO INVENTARI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TARJETA EXI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5" idx="3"/>
            <a:endCxn id="60" idx="1"/>
          </p:cNvCxnSpPr>
          <p:nvPr/>
        </p:nvCxnSpPr>
        <p:spPr>
          <a:xfrm>
            <a:off x="4645080" y="3383640"/>
            <a:ext cx="1727640" cy="33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5" idx="3"/>
            <a:endCxn id="61" idx="1"/>
          </p:cNvCxnSpPr>
          <p:nvPr/>
        </p:nvCxnSpPr>
        <p:spPr>
          <a:xfrm flipV="1">
            <a:off x="4645080" y="2996280"/>
            <a:ext cx="1727640" cy="387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3" idx="2"/>
            <a:endCxn id="56" idx="1"/>
          </p:cNvCxnSpPr>
          <p:nvPr/>
        </p:nvCxnSpPr>
        <p:spPr>
          <a:xfrm flipH="1" rot="16200000">
            <a:off x="1547640" y="4967640"/>
            <a:ext cx="577440" cy="1296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387600" y="4032360"/>
            <a:ext cx="360360" cy="36036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333360"/>
            <a:ext cx="2952720" cy="79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9440" y="5113440"/>
            <a:ext cx="14292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84360" y="5113440"/>
            <a:ext cx="14292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61080" y="5113440"/>
            <a:ext cx="14256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73800" y="3776760"/>
            <a:ext cx="14292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73800" y="305748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8360" y="127008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360" y="177336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50160" y="2000160"/>
            <a:ext cx="109440" cy="135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0360" y="5614920"/>
            <a:ext cx="1404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 / BBH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6" idx="2"/>
            <a:endCxn id="75" idx="2"/>
          </p:cNvCxnSpPr>
          <p:nvPr/>
        </p:nvCxnSpPr>
        <p:spPr>
          <a:xfrm flipH="1" flipV="1" rot="5400000">
            <a:off x="5823000" y="3933000"/>
            <a:ext cx="1800" cy="4518360"/>
          </a:xfrm>
          <a:prstGeom prst="bentConnector3">
            <a:avLst>
              <a:gd name="adj1" fmla="val -1587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57" idx="3"/>
            <a:endCxn id="75" idx="1"/>
          </p:cNvCxnSpPr>
          <p:nvPr/>
        </p:nvCxnSpPr>
        <p:spPr>
          <a:xfrm flipV="1">
            <a:off x="7021440" y="5902920"/>
            <a:ext cx="359280" cy="2160"/>
          </a:xfrm>
          <a:prstGeom prst="bentConnector3">
            <a:avLst>
              <a:gd name="adj1" fmla="val 4994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7751880" y="5059440"/>
            <a:ext cx="649080" cy="21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5" idx="0"/>
            <a:endCxn id="78" idx="2"/>
          </p:cNvCxnSpPr>
          <p:nvPr/>
        </p:nvCxnSpPr>
        <p:spPr>
          <a:xfrm flipV="1" rot="16200000">
            <a:off x="7909920" y="5441760"/>
            <a:ext cx="339840" cy="6840"/>
          </a:xfrm>
          <a:prstGeom prst="bentConnector3">
            <a:avLst>
              <a:gd name="adj1" fmla="val 500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238560" y="179280"/>
            <a:ext cx="649080" cy="21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6-29T02:47:00Z</dcterms:modified>
  <cp:revision>21</cp:revision>
  <dc:subject/>
  <dc:title>Diapositiva 1</dc:title>
</cp:coreProperties>
</file>