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928-B069-42E2-85F9-B2C3CF53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2FE-F346-497C-86C1-FF77EBD6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338-6509-4611-B3CB-C9AFED52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7AD-4AD8-4B79-9D8C-D7C9855B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3D1-7CD8-4CDA-8984-A6E44B38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696-0CE6-4004-8550-DC23F766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D34-C40D-4778-ACA4-F8141384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20A-14CA-4F3F-A1D4-70AEF0D0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A9B-6F04-4F9E-BA7C-3E4B783E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989-01B8-4C4F-8646-74F69F65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DA4-5430-4489-A7D4-7E66658B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889-3F52-469E-9261-6D3DC1A5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FCDE-B477-421F-BB91-75DCF4169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71928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511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4751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230364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309564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3456720" y="140328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3456720" y="298764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3456720" y="219564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484360" y="4751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61080" y="4751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1836720" y="302328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025080" y="421164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213080" y="302328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5" idx="2"/>
            <a:endCxn id="41" idx="0"/>
          </p:cNvCxnSpPr>
          <p:nvPr/>
        </p:nvCxnSpPr>
        <p:spPr>
          <a:xfrm flipH="1" rot="16200000">
            <a:off x="3401640" y="556200"/>
            <a:ext cx="324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484360" y="5616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61080" y="56167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49" idx="2"/>
            <a:endCxn id="56" idx="0"/>
          </p:cNvCxnSpPr>
          <p:nvPr/>
        </p:nvCxnSpPr>
        <p:spPr>
          <a:xfrm rot="16200000">
            <a:off x="3420360" y="547200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0" idx="2"/>
            <a:endCxn id="57" idx="0"/>
          </p:cNvCxnSpPr>
          <p:nvPr/>
        </p:nvCxnSpPr>
        <p:spPr>
          <a:xfrm rot="16200000">
            <a:off x="5796720" y="547200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372360" y="3429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2708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>
            <a:off x="4645080" y="3383640"/>
            <a:ext cx="1727640" cy="33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5" idx="3"/>
            <a:endCxn id="61" idx="1"/>
          </p:cNvCxnSpPr>
          <p:nvPr/>
        </p:nvCxnSpPr>
        <p:spPr>
          <a:xfrm flipV="1">
            <a:off x="4645080" y="2996280"/>
            <a:ext cx="1727640" cy="38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3" idx="2"/>
            <a:endCxn id="56" idx="1"/>
          </p:cNvCxnSpPr>
          <p:nvPr/>
        </p:nvCxnSpPr>
        <p:spPr>
          <a:xfrm flipH="1" rot="16200000">
            <a:off x="1547640" y="4967640"/>
            <a:ext cx="577440" cy="129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387600" y="403236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9440" y="511344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511344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61080" y="51134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3800" y="377676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3800" y="305748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27008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77336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50160" y="20001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614920"/>
            <a:ext cx="1404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/ BBH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6" idx="2"/>
            <a:endCxn id="75" idx="2"/>
          </p:cNvCxnSpPr>
          <p:nvPr/>
        </p:nvCxnSpPr>
        <p:spPr>
          <a:xfrm flipH="1" flipV="1" rot="5400000">
            <a:off x="5823000" y="3933000"/>
            <a:ext cx="1800" cy="4518360"/>
          </a:xfrm>
          <a:prstGeom prst="bentConnector3">
            <a:avLst>
              <a:gd name="adj1" fmla="val -1587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57" idx="3"/>
            <a:endCxn id="75" idx="1"/>
          </p:cNvCxnSpPr>
          <p:nvPr/>
        </p:nvCxnSpPr>
        <p:spPr>
          <a:xfrm flipV="1">
            <a:off x="7021440" y="5902920"/>
            <a:ext cx="359280" cy="216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751880" y="5059440"/>
            <a:ext cx="649080" cy="21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5" idx="0"/>
            <a:endCxn id="78" idx="2"/>
          </p:cNvCxnSpPr>
          <p:nvPr/>
        </p:nvCxnSpPr>
        <p:spPr>
          <a:xfrm flipV="1" rot="16200000">
            <a:off x="7909920" y="5441760"/>
            <a:ext cx="339840" cy="6840"/>
          </a:xfrm>
          <a:prstGeom prst="bentConnector3">
            <a:avLst>
              <a:gd name="adj1" fmla="val 500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38560" y="179280"/>
            <a:ext cx="649080" cy="21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2:47:00Z</dcterms:modified>
  <cp:revision>21</cp:revision>
  <dc:subject/>
  <dc:title>Diapositiva 1</dc:title>
</cp:coreProperties>
</file>