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F6E-9A6E-44AE-BC4C-920F4B44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80D-30C4-48CC-86A6-B75EC01E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AB2-C21A-40C6-912B-C4529225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3CA-DA0A-4246-9472-5C9F294D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ECE-268A-42D4-A3FD-429361DB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DE3-F3B7-430F-9B12-51BEBC56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050-E866-4867-B44D-6249FF3A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0E4-8247-495E-9C96-34B5F8BD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568-705D-40B8-BED2-7C9AA187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E46A-8198-4FF5-9124-E5B51742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F78-3AFB-40A4-A8E9-8EA9F0E4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469-EAAF-49BD-A8B6-9FFB88E4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11B3-4132-4EBB-9ECD-A2A3DDBAD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84360" y="71928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5112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4751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230364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309564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3456720" y="140328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3456720" y="298764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3456720" y="219564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484360" y="47512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61080" y="4751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1836720" y="302328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025080" y="421164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213080" y="302328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5" idx="2"/>
            <a:endCxn id="41" idx="0"/>
          </p:cNvCxnSpPr>
          <p:nvPr/>
        </p:nvCxnSpPr>
        <p:spPr>
          <a:xfrm flipH="1" rot="16200000">
            <a:off x="3401640" y="556200"/>
            <a:ext cx="324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484360" y="5616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61080" y="56167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49" idx="2"/>
            <a:endCxn id="56" idx="0"/>
          </p:cNvCxnSpPr>
          <p:nvPr/>
        </p:nvCxnSpPr>
        <p:spPr>
          <a:xfrm rot="16200000">
            <a:off x="3420360" y="547200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0" idx="2"/>
            <a:endCxn id="57" idx="0"/>
          </p:cNvCxnSpPr>
          <p:nvPr/>
        </p:nvCxnSpPr>
        <p:spPr>
          <a:xfrm rot="16200000">
            <a:off x="5796720" y="547200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372360" y="3429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2708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>
            <a:off x="4645080" y="3383640"/>
            <a:ext cx="1727640" cy="33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5" idx="3"/>
            <a:endCxn id="61" idx="1"/>
          </p:cNvCxnSpPr>
          <p:nvPr/>
        </p:nvCxnSpPr>
        <p:spPr>
          <a:xfrm flipV="1">
            <a:off x="4645080" y="2996280"/>
            <a:ext cx="1727640" cy="38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3" idx="2"/>
            <a:endCxn id="56" idx="1"/>
          </p:cNvCxnSpPr>
          <p:nvPr/>
        </p:nvCxnSpPr>
        <p:spPr>
          <a:xfrm flipH="1" rot="16200000">
            <a:off x="1547640" y="4967640"/>
            <a:ext cx="577440" cy="129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387600" y="403236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9440" y="511344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511344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61080" y="51134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3800" y="377676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73800" y="305748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27008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77336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50160" y="20001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0360" y="5614920"/>
            <a:ext cx="1404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/ BBH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6" idx="2"/>
            <a:endCxn id="75" idx="2"/>
          </p:cNvCxnSpPr>
          <p:nvPr/>
        </p:nvCxnSpPr>
        <p:spPr>
          <a:xfrm flipH="1" flipV="1" rot="5400000">
            <a:off x="5823000" y="3933000"/>
            <a:ext cx="1800" cy="4518360"/>
          </a:xfrm>
          <a:prstGeom prst="bentConnector3">
            <a:avLst>
              <a:gd name="adj1" fmla="val -1587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57" idx="3"/>
            <a:endCxn id="75" idx="1"/>
          </p:cNvCxnSpPr>
          <p:nvPr/>
        </p:nvCxnSpPr>
        <p:spPr>
          <a:xfrm flipV="1">
            <a:off x="7021440" y="5902920"/>
            <a:ext cx="359280" cy="2160"/>
          </a:xfrm>
          <a:prstGeom prst="bentConnector3">
            <a:avLst>
              <a:gd name="adj1" fmla="val 499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7751880" y="5059440"/>
            <a:ext cx="649080" cy="21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5" idx="0"/>
            <a:endCxn id="78" idx="2"/>
          </p:cNvCxnSpPr>
          <p:nvPr/>
        </p:nvCxnSpPr>
        <p:spPr>
          <a:xfrm flipV="1" rot="16200000">
            <a:off x="7909920" y="5441760"/>
            <a:ext cx="339840" cy="6840"/>
          </a:xfrm>
          <a:prstGeom prst="bentConnector3">
            <a:avLst>
              <a:gd name="adj1" fmla="val 500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38560" y="179280"/>
            <a:ext cx="649080" cy="21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2:47:00Z</dcterms:modified>
  <cp:revision>21</cp:revision>
  <dc:subject/>
  <dc:title>Diapositiva 1</dc:title>
</cp:coreProperties>
</file>