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B34-B107-463A-912E-D3C353CD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866-60CA-4558-A202-D254FCD9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C84-3E0A-47E6-AFFA-656366A8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14F-497A-4538-A7D8-026B1D64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46E-69E0-4A49-9DAB-7E898FAA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F6F7-8019-4421-8738-A582295C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5B1C-6B30-4C6D-931B-F1222304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4F50-8486-4452-A279-B0352BEF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C0EB-9582-4800-A265-2F02F338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0FA-6915-4DD6-A7F6-2B8B1CA4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50DB-537A-44B4-8BC3-44DC238B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89D-FEC1-478A-A6A4-6ABD5040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6639-B71D-4F8B-9057-4D1486565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84360" y="71928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84360" y="15112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R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4751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GUIA DESPACH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230364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IMIR Y ENVI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84360" y="309564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PCION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rot="16200000">
            <a:off x="3456720" y="140328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2"/>
            <a:endCxn id="45" idx="0"/>
          </p:cNvCxnSpPr>
          <p:nvPr/>
        </p:nvCxnSpPr>
        <p:spPr>
          <a:xfrm rot="16200000">
            <a:off x="3456720" y="298764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2"/>
            <a:endCxn id="44" idx="0"/>
          </p:cNvCxnSpPr>
          <p:nvPr/>
        </p:nvCxnSpPr>
        <p:spPr>
          <a:xfrm rot="16200000">
            <a:off x="3456720" y="219564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2484360" y="47512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FACTUR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61080" y="4751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BOLETA HONORARIO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5" idx="2"/>
            <a:endCxn id="43" idx="0"/>
          </p:cNvCxnSpPr>
          <p:nvPr/>
        </p:nvCxnSpPr>
        <p:spPr>
          <a:xfrm rot="5400000">
            <a:off x="1836720" y="3023280"/>
            <a:ext cx="1079640" cy="23770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5" idx="2"/>
            <a:endCxn id="49" idx="0"/>
          </p:cNvCxnSpPr>
          <p:nvPr/>
        </p:nvCxnSpPr>
        <p:spPr>
          <a:xfrm rot="16200000">
            <a:off x="3025080" y="4211640"/>
            <a:ext cx="10796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50" idx="0"/>
          </p:cNvCxnSpPr>
          <p:nvPr/>
        </p:nvCxnSpPr>
        <p:spPr>
          <a:xfrm flipH="1" rot="16200000">
            <a:off x="4213080" y="3023280"/>
            <a:ext cx="1079640" cy="23767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5" idx="2"/>
            <a:endCxn id="41" idx="0"/>
          </p:cNvCxnSpPr>
          <p:nvPr/>
        </p:nvCxnSpPr>
        <p:spPr>
          <a:xfrm flipH="1" rot="16200000">
            <a:off x="3401640" y="556200"/>
            <a:ext cx="3243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2484360" y="5616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61080" y="5616720"/>
            <a:ext cx="216036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LETA HONOR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49" idx="2"/>
            <a:endCxn id="56" idx="0"/>
          </p:cNvCxnSpPr>
          <p:nvPr/>
        </p:nvCxnSpPr>
        <p:spPr>
          <a:xfrm rot="16200000">
            <a:off x="3420360" y="547200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0" idx="2"/>
            <a:endCxn id="57" idx="0"/>
          </p:cNvCxnSpPr>
          <p:nvPr/>
        </p:nvCxnSpPr>
        <p:spPr>
          <a:xfrm rot="16200000">
            <a:off x="5796720" y="547200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372360" y="342900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 RECEPCIÓ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ISTENCIAS VS DOCTOS X 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2708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GRESO INVENTARI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TARJETA EX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5" idx="3"/>
            <a:endCxn id="60" idx="1"/>
          </p:cNvCxnSpPr>
          <p:nvPr/>
        </p:nvCxnSpPr>
        <p:spPr>
          <a:xfrm>
            <a:off x="4645080" y="3383640"/>
            <a:ext cx="1727640" cy="33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5" idx="3"/>
            <a:endCxn id="61" idx="1"/>
          </p:cNvCxnSpPr>
          <p:nvPr/>
        </p:nvCxnSpPr>
        <p:spPr>
          <a:xfrm flipV="1">
            <a:off x="4645080" y="2996280"/>
            <a:ext cx="1727640" cy="387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3" idx="2"/>
            <a:endCxn id="56" idx="1"/>
          </p:cNvCxnSpPr>
          <p:nvPr/>
        </p:nvCxnSpPr>
        <p:spPr>
          <a:xfrm flipH="1" rot="16200000">
            <a:off x="1547640" y="4967640"/>
            <a:ext cx="577440" cy="129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387600" y="4032360"/>
            <a:ext cx="360360" cy="360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333360"/>
            <a:ext cx="2952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9440" y="5113440"/>
            <a:ext cx="14292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5113440"/>
            <a:ext cx="14292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61080" y="51134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73800" y="3776760"/>
            <a:ext cx="14292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73800" y="305748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27008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177336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50160" y="2000160"/>
            <a:ext cx="109440" cy="135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0360" y="5614920"/>
            <a:ext cx="1404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/ BBH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6" idx="2"/>
            <a:endCxn id="75" idx="2"/>
          </p:cNvCxnSpPr>
          <p:nvPr/>
        </p:nvCxnSpPr>
        <p:spPr>
          <a:xfrm flipH="1" flipV="1" rot="5400000">
            <a:off x="5823000" y="3933000"/>
            <a:ext cx="1800" cy="4518360"/>
          </a:xfrm>
          <a:prstGeom prst="bentConnector3">
            <a:avLst>
              <a:gd name="adj1" fmla="val -1587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57" idx="3"/>
            <a:endCxn id="75" idx="1"/>
          </p:cNvCxnSpPr>
          <p:nvPr/>
        </p:nvCxnSpPr>
        <p:spPr>
          <a:xfrm flipV="1">
            <a:off x="7021440" y="5902920"/>
            <a:ext cx="359280" cy="2160"/>
          </a:xfrm>
          <a:prstGeom prst="bentConnector3">
            <a:avLst>
              <a:gd name="adj1" fmla="val 499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7751880" y="5059440"/>
            <a:ext cx="649080" cy="21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5" idx="0"/>
            <a:endCxn id="78" idx="2"/>
          </p:cNvCxnSpPr>
          <p:nvPr/>
        </p:nvCxnSpPr>
        <p:spPr>
          <a:xfrm flipV="1" rot="16200000">
            <a:off x="7909920" y="5441760"/>
            <a:ext cx="339840" cy="6840"/>
          </a:xfrm>
          <a:prstGeom prst="bentConnector3">
            <a:avLst>
              <a:gd name="adj1" fmla="val 500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38560" y="179280"/>
            <a:ext cx="649080" cy="21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2:47:00Z</dcterms:modified>
  <cp:revision>21</cp:revision>
  <dc:subject/>
  <dc:title>Diapositiva 1</dc:title>
</cp:coreProperties>
</file>