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FB-3878-4B0F-995B-9F592C1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DCB-7DED-412A-B0ED-4640FBA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C87-AB6F-47FC-AAFA-B72F9D91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903-AAB7-4724-8807-60E4AB3E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7B4-7849-4B02-9A0C-3BFE29BA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FAB-A195-42D6-998B-3173984E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AB5-F435-40C6-A37E-F58C3EC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DC3-D4BA-49CF-85E2-A087234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E83-4319-4833-A987-EECF018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763-A9F7-4929-89D4-C1F0F8A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AD7-46A0-4E59-B37F-C6A3AE6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72A-BF35-4E0F-A8CA-D265256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B8F-12CA-4AE6-9DDB-1FED4EBDF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719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51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30364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3095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3456720" y="140328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3456720" y="2987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3456720" y="2195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484360" y="475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108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1836720" y="302328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025080" y="421164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213080" y="302328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5" idx="2"/>
            <a:endCxn id="41" idx="0"/>
          </p:cNvCxnSpPr>
          <p:nvPr/>
        </p:nvCxnSpPr>
        <p:spPr>
          <a:xfrm flipH="1" rot="16200000">
            <a:off x="3401640" y="556200"/>
            <a:ext cx="324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484360" y="5616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56167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2"/>
            <a:endCxn id="56" idx="0"/>
          </p:cNvCxnSpPr>
          <p:nvPr/>
        </p:nvCxnSpPr>
        <p:spPr>
          <a:xfrm rot="16200000">
            <a:off x="342036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7" idx="0"/>
          </p:cNvCxnSpPr>
          <p:nvPr/>
        </p:nvCxnSpPr>
        <p:spPr>
          <a:xfrm rot="16200000">
            <a:off x="579672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372360" y="3429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708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>
            <a:off x="4645080" y="3383640"/>
            <a:ext cx="1727640" cy="33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3"/>
            <a:endCxn id="61" idx="1"/>
          </p:cNvCxnSpPr>
          <p:nvPr/>
        </p:nvCxnSpPr>
        <p:spPr>
          <a:xfrm flipV="1">
            <a:off x="4645080" y="2996280"/>
            <a:ext cx="1727640" cy="38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2"/>
            <a:endCxn id="56" idx="1"/>
          </p:cNvCxnSpPr>
          <p:nvPr/>
        </p:nvCxnSpPr>
        <p:spPr>
          <a:xfrm flipH="1" rot="16200000">
            <a:off x="1547640" y="4967640"/>
            <a:ext cx="577440" cy="129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387600" y="403236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44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1080" y="51134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3800" y="377676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3800" y="305748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7008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77336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50160" y="20001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614920"/>
            <a:ext cx="1404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/ BBH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6" idx="2"/>
            <a:endCxn id="75" idx="2"/>
          </p:cNvCxnSpPr>
          <p:nvPr/>
        </p:nvCxnSpPr>
        <p:spPr>
          <a:xfrm flipH="1" flipV="1" rot="5400000">
            <a:off x="5823000" y="3933000"/>
            <a:ext cx="1800" cy="4518360"/>
          </a:xfrm>
          <a:prstGeom prst="bentConnector3">
            <a:avLst>
              <a:gd name="adj1" fmla="val -1587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7" idx="3"/>
            <a:endCxn id="75" idx="1"/>
          </p:cNvCxnSpPr>
          <p:nvPr/>
        </p:nvCxnSpPr>
        <p:spPr>
          <a:xfrm flipV="1">
            <a:off x="7021440" y="5902920"/>
            <a:ext cx="35928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751880" y="505944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0"/>
            <a:endCxn id="78" idx="2"/>
          </p:cNvCxnSpPr>
          <p:nvPr/>
        </p:nvCxnSpPr>
        <p:spPr>
          <a:xfrm flipV="1" rot="16200000">
            <a:off x="7909920" y="5441760"/>
            <a:ext cx="339840" cy="6840"/>
          </a:xfrm>
          <a:prstGeom prst="bentConnector3">
            <a:avLst>
              <a:gd name="adj1" fmla="val 500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38560" y="17928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2:47:00Z</dcterms:modified>
  <cp:revision>21</cp:revision>
  <dc:subject/>
  <dc:title>Diapositiva 1</dc:title>
</cp:coreProperties>
</file>